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91B-2E11-46F2-BC43-C7A6D172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3BA-859E-4AD9-8214-430266DF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618-7FF8-4C9C-90D0-A23A68F7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EA9-7495-421F-AD10-BF02CB91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4D4-4A91-4E82-8E00-7E99052C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753-6C33-4AC7-9D12-C4FDC5A1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265-F72F-48BA-BA63-82CF266D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C22-7A38-466F-BAAE-DA086D3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E22-5091-462F-B7E3-C8D91F36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321-44D0-4DF9-8B46-642B4087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62E-2E0B-4109-A907-46F6BA8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6E7-85AB-4078-AE2B-D13DCED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A583-820B-40AA-9A9C-A229CB46F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0 de juni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00cc"/>
                </a:solidFill>
                <a:latin typeface="Arial"/>
              </a:rPr>
              <a:t>L.O: to review object pronouns and Ser &amp;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 y respon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. 210 (1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ercicio 19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. 211 (1-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s 2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53352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cp:lastPrinted>2016-06-07T14:49:59Z</cp:lastPrinted>
  <dcterms:modified xsi:type="dcterms:W3CDTF">2016-06-20T15:23:55Z</dcterms:modified>
  <cp:revision>45</cp:revision>
  <dc:subject/>
  <dc:title>Me llamo ________ Clase 7 im La fecha es el 13 de mayo del 2011</dc:title>
</cp:coreProperties>
</file>